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55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6.png" ContentType="image/pn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9.jpeg" ContentType="image/jpeg"/>
  <Override PartName="/ppt/media/image1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ECE4-7D1D-4940-8E85-16A61FA6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221B-A4AF-4B60-A10D-8A673190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DF35-6AF8-41E9-B882-85AF75C8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A80-978E-40E6-B9D7-802B49A0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0D35-DDFE-46FB-85F0-A7F72149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E6AD-701A-481E-B991-08DF21EE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46FB-A970-401C-B06A-A84AA178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B4CB-ADC8-47AB-9F15-F8842889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8502-8D1E-4522-B8EC-CEE1D93E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5208-BF4B-4DFC-880A-1DE79DB9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E51F-B489-4DDE-B754-B2CA0906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51E5-7864-4CC3-B56F-13386A12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2166-A9F2-4607-A524-2FBD173A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6AC8-671B-4CF8-B299-B916DD25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5615-33B8-462C-A3B7-C85FD4CC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AEB3-92FE-4798-9BC0-49FB4614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7156-F066-4340-A06B-B4267918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CD2-7613-4E95-A900-A1E333E4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8DE-0187-4388-A152-B30DCBF9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79E9-32D6-461F-BC93-9F6A581D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4FD1-B7D0-4EF9-B0C4-E9DE56BF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C5E0-BE99-4543-A1D3-A5129135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09D-5E43-4470-A8EE-EA716E35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D0E8-CFD4-491F-971D-EA9274CD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F344-1AFA-42F9-920C-21926A64075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C787-6B8B-43BE-9EED-D04B25A5FB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sychobabyonline.com/site/scpics/tmb/2046/beep_beep.jpg&amp;imgrefurl=http://www.psychobabyonline.com/site/psychobaby/productdetail.exc?cmd=view_prod&amp;isApp=true&amp;page=1&amp;co_id=533&amp;item_id=62892&amp;prod_id=3948&amp;usg=__PmcQM9lDomNJxckSQzq0v_G30CQ=&amp;h=500&amp;w=500&amp;sz=63&amp;hl=en&amp;start=6&amp;tbnid=WZ1pibzxUIPdZM:&amp;tbnh=130&amp;tbnw=130&amp;prev=/images?q=beep&amp;gbv=2&amp;ndsp=20&amp;hl=en&amp;sa=N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s.google.com/imgres?imgurl=http://1.bp.blogspot.com/_7Xqyf86iB7o/Sccfi6x4e1I/AAAAAAAAACk/sbDf2cGFge4/s400/Peep+art+not+for+kids.jpg&amp;imgrefurl=http://cheeseburgersinpakistan.blogspot.com/2009/03/peep-it-up.html&amp;usg=__FmfHIIX-HahsjmTuxEtkES7-qL0=&amp;h=300&amp;w=400&amp;sz=18&amp;hl=en&amp;start=8&amp;tbnid=c-qG-qsH87ysqM:&amp;tbnh=93&amp;tbnw=124&amp;prev=/images?q=peep&amp;gbv=2&amp;hl=en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images.google.com/imgres?imgurl=http://media.monstersandcritics.com/galleries/1208488/0135121550085.jpg&amp;imgrefurl=http://www.monstersandcritics.com/news/asiapacific/features/article_1406506.php/In_photos_China_Sichuan_Earthquake_-_May_20th&amp;usg=__3Odv2bZ8aiKGQp4i-Lmm_QbF5SY=&amp;h=750&amp;w=500&amp;sz=59&amp;hl=en&amp;start=25&amp;tbnid=_oQaCpHU9EqAEM:&amp;tbnh=141&amp;tbnw=94&amp;prev=/images?q=weep&amp;gbv=2&amp;ndsp=20&amp;hl=en&amp;sa=N&amp;start=20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images.google.com/imgres?imgurl=http://itech.dickinson.edu/chemistry/wp-content/uploads/2008/05/flock_of_sheep.jpg&amp;imgrefurl=http://itech.dickinson.edu/chemistry/?cat=69&amp;usg=__xNgqhZua2LHufn9E9NR5tot1D4Q=&amp;h=2700&amp;w=1776&amp;sz=1422&amp;hl=en&amp;start=4&amp;tbnid=vFp42oDGf0c6AM:&amp;tbnh=150&amp;tbnw=99&amp;prev=/images?q=sheep&amp;gbv=2&amp;ndsp=20&amp;hl=en&amp;sa=N" TargetMode="External"/><Relationship Id="rId8" Type="http://schemas.openxmlformats.org/officeDocument/2006/relationships/image" Target="../media/image41.jpeg"/><Relationship Id="rId9" Type="http://schemas.openxmlformats.org/officeDocument/2006/relationships/hyperlink" Target="http://images.google.com/imgres?imgurl=http://fortyhumans.files.wordpress.com/2007/08/cheep.jpg&amp;imgrefurl=http://fortyhumans.wordpress.com/2007/08/21/how-to-feed-the-humans-in-your-life/&amp;usg=__aiNhwMQVKGIqMdti_iOuDk4xIiw=&amp;h=300&amp;w=400&amp;sz=22&amp;hl=en&amp;start=6&amp;tbnid=5qnsGUHYtM7-pM:&amp;tbnh=93&amp;tbnw=124&amp;prev=/images?q=cheep&amp;gbv=2&amp;hl=en" TargetMode="External"/><Relationship Id="rId10" Type="http://schemas.openxmlformats.org/officeDocument/2006/relationships/image" Target="../media/image42.jpeg"/><Relationship Id="rId11" Type="http://schemas.openxmlformats.org/officeDocument/2006/relationships/hyperlink" Target="http://images.google.com/imgres?imgurl=http://www.hauntedxing.ca/creep.jpg&amp;imgrefurl=http://www.hauntedxing.ca/Masks.html&amp;usg=__sPRg9SAPoD0rJh9Vp1K-TU1D2jM=&amp;h=335&amp;w=300&amp;sz=20&amp;hl=en&amp;start=4&amp;tbnid=OYhrRVbhPfE43M:&amp;tbnh=119&amp;tbnw=107&amp;prev=/images?q=creep&amp;gbv=2&amp;ndsp=20&amp;hl=en&amp;sa=N" TargetMode="External"/><Relationship Id="rId12" Type="http://schemas.openxmlformats.org/officeDocument/2006/relationships/image" Target="../media/image43.jpeg"/><Relationship Id="rId13" Type="http://schemas.openxmlformats.org/officeDocument/2006/relationships/hyperlink" Target="http://images.google.com/imgres?imgurl=http://d21c.com/DragonsDreams/gar/Sleep.jpg&amp;imgrefurl=http://lesliebradshaw.com/?m=200807&amp;usg=__awKP9lmSxChlCgX5XLocCByEtnI=&amp;h=600&amp;w=800&amp;sz=68&amp;hl=en&amp;start=1&amp;tbnid=TKN8DyYK50vw7M:&amp;tbnh=107&amp;tbnw=143&amp;prev=/images?q=sleep&amp;gbv=2&amp;hl=en" TargetMode="External"/><Relationship Id="rId14" Type="http://schemas.openxmlformats.org/officeDocument/2006/relationships/image" Target="../media/image44.jpeg"/><Relationship Id="rId15" Type="http://schemas.openxmlformats.org/officeDocument/2006/relationships/hyperlink" Target="http://images.google.com/imgres?imgurl=http://i.ehow.com/images/GlobalPhoto/Articles/2198837/16-main_Full.jpg&amp;imgrefurl=http://www.ehow.com/how_2198837_drive-steep-hill.html&amp;usg=__4b7kyQMxeLyBM-j_UZex9Yq1BpI=&amp;h=450&amp;w=600&amp;sz=81&amp;hl=en&amp;start=16&amp;tbnid=VjcBIiYZBDp0NM:&amp;tbnh=101&amp;tbnw=135&amp;prev=/images?q=steep&amp;gbv=2&amp;hl=en" TargetMode="External"/><Relationship Id="rId16" Type="http://schemas.openxmlformats.org/officeDocument/2006/relationships/image" Target="../media/image45.jpeg"/><Relationship Id="rId17" Type="http://schemas.openxmlformats.org/officeDocument/2006/relationships/hyperlink" Target="http://images.google.com/imgres?imgurl=http://wrigleyville23.com/assets_c/2009/06/sweep-thumb-437x437-17421.png&amp;imgrefurl=http://wrigleyville23.com/2009/06/sweep-in-chicago-sweep-in-detroit.html&amp;usg=__StoGzhswcPw0v2cUtxZh0eG5mUM=&amp;h=400&amp;w=400&amp;sz=75&amp;hl=en&amp;start=24&amp;tbnid=WJ-2XCNqLdLheM:&amp;tbnh=124&amp;tbnw=124&amp;prev=/images?q=sweep&amp;gbv=2&amp;ndsp=20&amp;hl=en&amp;sa=N&amp;start=20" TargetMode="External"/><Relationship Id="rId18" Type="http://schemas.openxmlformats.org/officeDocument/2006/relationships/image" Target="../media/image46.jpeg"/><Relationship Id="rId19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visitusa.com/utah/images/greatsaltlakepic.jpg" TargetMode="External"/><Relationship Id="rId2" Type="http://schemas.openxmlformats.org/officeDocument/2006/relationships/image" Target="../media/image2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ages.google.com/imgres?imgurl=http://www.visitingdc.com/images/fishermans-wharf-picture.jpg&amp;imgrefurl=http://www.visitingdc.com/san-francisco/fishermans-wharf-picture.asp&amp;usg=__e_No16_dmtUjZ_ThHczt6x6yKUk=&amp;h=397&amp;w=600&amp;sz=117&amp;hl=en&amp;start=3&amp;tbnid=7yDYwSxK6vTwXM:&amp;tbnh=89&amp;tbnw=135&amp;prev=/images?q=fisherman+wharf&amp;gbv=2&amp;hl=en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visitingdc.com/images/fishermans-wharf-picture-3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google.com/imgres?imgurl=http://www.inetours.com/images/Tours/Walk/Wharf-fleet.jpg&amp;imgrefurl=http://www.inetours.com/Pages/SFNbrhds/Fishermans_Wharf.html&amp;usg=__-DojBgT9b0vNqIca5nq4PfEQy-c=&amp;h=346&amp;w=550&amp;sz=58&amp;hl=en&amp;start=8&amp;tbnid=3YSR3DLACT52pM:&amp;tbnh=84&amp;tbnw=133&amp;prev=/images?q=fisherman+wharf&amp;gbv=2&amp;hl=en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google.com/imgres?imgurl=http://upload.wikimedia.org/wikipedia/commons/1/12/Fishermans_Wharf_aerial_view.jpg&amp;imgrefurl=http://clickthegoodnews.blogspot.com/2008/11/le-sigh.html&amp;usg=__4Ysd7wpYEikxFIWc0vWcBRfyDpo=&amp;h=1001&amp;w=1500&amp;sz=639&amp;hl=en&amp;start=16&amp;tbnid=MCVFUwGO-7yORM:&amp;tbnh=100&amp;tbnw=150&amp;prev=/images?q=fisherman+wharf&amp;gbv=2&amp;hl=en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ages.google.com/imgres?imgurl=http://i3.photobucket.com/albums/y90/hillaryk/EmpireStateBuilding.gif&amp;imgrefurl=http://95420391c9d.blogspot.com/&amp;usg=__VKW4KG-QYPrz5aKxkG6pvvGHOXI=&amp;h=800&amp;w=691&amp;sz=317&amp;hl=en&amp;start=1&amp;tbnid=9dOOHvsPD_2OPM:&amp;tbnh=143&amp;tbnw=124&amp;prev=/images?q=empire+state+building&amp;gbv=2&amp;hl=en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.ehow.com/images/GlobalPhoto/Articles/2321127/mess-main_Full.jpg&amp;imgrefurl=http://www.ehow.com/how_4607279_eliminate-clutter-home.html&amp;usg=__s50zycSAWp9Wpxa1mXgUQ111qeo=&amp;h=299&amp;w=450&amp;sz=50&amp;hl=en&amp;start=5&amp;tbnid=PVo5bPJs0CQnfM:&amp;tbnh=84&amp;tbnw=127&amp;prev=/images?q=MESS&amp;gbv=2&amp;hl=e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inloughborough.com/newsimages//2008/02/images/chess.jpg&amp;imgrefurl=http://www.inloughborough.com/news/000514/Loughborough%20MP%20Announces%20Free%20Chess%20Sets%20for%20Schools&amp;usg=__HGvJL4jmeeNoXxSJZMtrrAgIjYU=&amp;h=371&amp;w=495&amp;sz=78&amp;hl=en&amp;start=9&amp;tbnid=f0-2OAHXmRlQuM:&amp;tbnh=97&amp;tbnw=130&amp;prev=/images?q=CHESS&amp;gbv=2&amp;ndsp=20&amp;hl=en&amp;sa=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www.legionofmarytidewater.com/extension/bless.jpg&amp;imgrefurl=http://www.legionofmarytidewater.com/extension/&amp;usg=__Uf1N_kND1mjEl3VM-t7DGTCqks8=&amp;h=384&amp;w=512&amp;sz=14&amp;hl=en&amp;start=8&amp;tbnid=q2COLuDSWFacyM:&amp;tbnh=98&amp;tbnw=131&amp;prev=/images?q=bless&amp;gbv=2&amp;hl=en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com/imgres?imgurl=http://4.bp.blogspot.com/_NUbPhaVyuGs/R9_-6whLBzI/AAAAAAAABzE/cm4PMtUZ8rY/s400/Twenty8Twelve+By+s.miller+Organdy+Frill+Front+Dress+290+2.jpg&amp;imgrefurl=http://iamfashion.blogspot.com/2008/03/sun-dresses-for-sunny-day-out.html&amp;usg=__0CNP9yCpqmHKZvsdzgC5wcgFJzU=&amp;h=368&amp;w=400&amp;sz=20&amp;hl=en&amp;start=24&amp;tbnid=9tmipfGr3LZ4YM:&amp;tbnh=114&amp;tbnw=124&amp;prev=/images?q=dress&amp;gbv=2&amp;ndsp=20&amp;hl=en&amp;sa=N&amp;start=20" TargetMode="External"/><Relationship Id="rId8" Type="http://schemas.openxmlformats.org/officeDocument/2006/relationships/image" Target="../media/image13.jpeg"/><Relationship Id="rId9" Type="http://schemas.openxmlformats.org/officeDocument/2006/relationships/hyperlink" Target="http://images.google.com/imgres?imgurl=http://z.about.com/d/womenshistory/1/0/4/J/bess_truman.jpg&amp;imgrefurl=http://womenshistory.about.com/od/firstladiesus/ig/First-Ladies-Picture-Gallery/Bess-Truman.htm&amp;usg=__rCnA5cQoUV-iPbB5SHvCESf1zIU=&amp;h=1185&amp;w=933&amp;sz=99&amp;hl=en&amp;start=15&amp;tbnid=BBjmKfLL_8vuMM:&amp;tbnh=150&amp;tbnw=118&amp;prev=/images?q=bess&amp;gbv=2&amp;hl=en" TargetMode="External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I%20Like%20Where%20I%20Am.htm" TargetMode="External"/><Relationship Id="rId2" Type="http://schemas.openxmlformats.org/officeDocument/2006/relationships/hyperlink" Target="http://www.scottsboro.org/~flewis/SF%20Reading%20Street/spellmaster/I%20Like%20Where%20I%20Am/jigword2.html" TargetMode="External"/><Relationship Id="rId3" Type="http://schemas.openxmlformats.org/officeDocument/2006/relationships/hyperlink" Target="http://www.scottsboro.org/~flewis/SF%20Reading%20Street/spellmaster/I%20Like%20Where%20I%20Am/matchword2.html" TargetMode="External"/><Relationship Id="rId4" Type="http://schemas.openxmlformats.org/officeDocument/2006/relationships/hyperlink" Target="http://www.scottsboro.org/~flewis/SF%20Reading%20Street/spellmaster/I%20Like%20Where%20I%20Am/speedword2.html" TargetMode="External"/><Relationship Id="rId5" Type="http://schemas.openxmlformats.org/officeDocument/2006/relationships/hyperlink" Target="http://www.scottsboro.org/~flewis/SF%20Reading%20Street/spellmaster/I%20Like%20Where%20I%20Am/wordsearch2.html" TargetMode="External"/><Relationship Id="rId6" Type="http://schemas.openxmlformats.org/officeDocument/2006/relationships/hyperlink" Target="http://www.scottsboro.org/~flewis/SF%20Reading%20Street/spellmaster/I%20Like%20Where%20I%20Am/wordweb.html" TargetMode="External"/><Relationship Id="rId7" Type="http://schemas.openxmlformats.org/officeDocument/2006/relationships/hyperlink" Target="http://www.spellingcity.com/index.php?option=com_spellcity&amp;task=viewList&amp;listId=825582" TargetMode="External"/><Relationship Id="rId8" Type="http://schemas.openxmlformats.org/officeDocument/2006/relationships/hyperlink" Target="http://www.spellingcity.com/index.php?option=com_spellcity&amp;task=viewList&amp;listId=825587" TargetMode="External"/><Relationship Id="rId9" Type="http://schemas.openxmlformats.org/officeDocument/2006/relationships/hyperlink" Target="http://www.scottsboro.org/~flewis/SF%20Reading%20Street/spellmaster/I%20Like%20Where%20I%20Am%20Spelling%20Words/speedword2.html" TargetMode="External"/><Relationship Id="rId10" Type="http://schemas.openxmlformats.org/officeDocument/2006/relationships/hyperlink" Target="http://www.scottsboro.org/~flewis/SF%20Reading%20Street/spellmaster/I%20Like%20Where%20I%20Am%20Spelling%20Words/wordweb.html" TargetMode="External"/><Relationship Id="rId11" Type="http://schemas.openxmlformats.org/officeDocument/2006/relationships/hyperlink" Target="http://www.quia.com/jg/1115553.html" TargetMode="External"/><Relationship Id="rId12" Type="http://schemas.openxmlformats.org/officeDocument/2006/relationships/hyperlink" Target="http://www.spellingcity.com/index.php?option=com_spellcity&amp;Itemid=122&amp;task=viewList&amp;listId=354273" TargetMode="External"/><Relationship Id="rId13" Type="http://schemas.openxmlformats.org/officeDocument/2006/relationships/hyperlink" Target="http://www.spellingcity.com/index.php?option=com_spellcity&amp;task=viewList&amp;listId=825588" TargetMode="External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su.edu/download/images/bigpics/band06.jpg&amp;imgrefurl=http://www.osu.edu/download/gallery.php?img=18&amp;usg=__F3XxDKZ1_3MkekboZJ8gssHp-lA=&amp;h=768&amp;w=1024&amp;sz=139&amp;hl=en&amp;start=5&amp;tbnid=Xe1WsM7WJ-PjaM:&amp;tbnh=113&amp;tbnw=150&amp;prev=/images?q=band&amp;gbv=2&amp;hl=en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m/imgres?imgurl=http://www.waimeaplan.org/images/state_land_above_waimea.jpg&amp;imgrefurl=http://www.waimeaplan.org/issues/land_use/index.html&amp;usg=__Y4UmvsJhj2Jr3CF_mm_VEmLdd6M=&amp;h=412&amp;w=550&amp;sz=65&amp;hl=en&amp;start=1&amp;tbnid=Ak_9VC6C8QkhkM:&amp;tbnh=100&amp;tbnw=133&amp;prev=/images?q=land&amp;gbv=2&amp;hl=en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google.com/imgres?imgurl=http://www.cs4fn.org/vlsi/images/sand.jpg&amp;imgrefurl=http://www.cs4fn.org/vlsi/sand.php&amp;usg=__xoCPUNuJKxPdPUlCOv_23y4gp_U=&amp;h=2752&amp;w=1784&amp;sz=148&amp;hl=en&amp;start=2&amp;tbnid=a14RhMDaQpr5mM:&amp;tbnh=150&amp;tbnw=97&amp;prev=/images?q=sand&amp;gbv=2&amp;ndsp=20&amp;hl=en&amp;sa=N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google.com/imgres?imgurl=http://www.americaslibrary.gov/assets/sh/cowboy/sh_cowboy_branding_2_e.jpg&amp;imgrefurl=http://www.americaslibrary.gov/sh/cowboy/sh_cowboy_branding_2_e.html&amp;usg=__pulhDzEbxjdhv4IS8xVG37s3QQI=&amp;h=468&amp;w=700&amp;sz=50&amp;hl=en&amp;start=3&amp;tbnid=bkKvorY3fiEI9M:&amp;tbnh=94&amp;tbnw=140&amp;prev=/images?q=cattle+brand&amp;gbv=2&amp;hl=en" TargetMode="External"/><Relationship Id="rId8" Type="http://schemas.openxmlformats.org/officeDocument/2006/relationships/image" Target="../media/image18.jpeg"/><Relationship Id="rId9" Type="http://schemas.openxmlformats.org/officeDocument/2006/relationships/hyperlink" Target="http://images.google.com/imgres?imgurl=http://www.abc.net.au/health/library/img/thyroid_gland_diag.gif&amp;imgrefurl=http://www.abc.net.au/health/library/stories/2005/06/16/1831822.htm&amp;usg=__Krbsko02my_RKRCqb4tsSdlzLyU=&amp;h=293&amp;w=271&amp;sz=14&amp;hl=en&amp;start=3&amp;tbnid=CKasueKpOfB-RM:&amp;tbnh=115&amp;tbnw=106&amp;prev=/images?q=gland&amp;gbv=2&amp;hl=en" TargetMode="External"/><Relationship Id="rId10" Type="http://schemas.openxmlformats.org/officeDocument/2006/relationships/image" Target="../media/image19.jpeg"/><Relationship Id="rId11" Type="http://schemas.openxmlformats.org/officeDocument/2006/relationships/hyperlink" Target="http://images.google.com/imgres?imgurl=http://www.kemble-pianos.co.uk/Kemble-grand-piano.jpg&amp;imgrefurl=http://www.kemble-pianos.co.uk/kemble-grand-piano.html&amp;usg=__6U6BpJGiY2dAIH6YS4qFjYhvWnw=&amp;h=408&amp;w=343&amp;sz=21&amp;hl=en&amp;start=5&amp;tbnid=Hd-LDifgC1C7YM:&amp;tbnh=125&amp;tbnw=105&amp;prev=/images?q=grand&amp;gbv=2&amp;hl=en" TargetMode="External"/><Relationship Id="rId12" Type="http://schemas.openxmlformats.org/officeDocument/2006/relationships/image" Target="../media/image20.jpeg"/><Relationship Id="rId13" Type="http://schemas.openxmlformats.org/officeDocument/2006/relationships/hyperlink" Target="http://images.google.com/imgres?imgurl=http://www.adventurephototours.com/images/gc2.jpg&amp;imgrefurl=http://www.adventurephototours.com/&amp;usg=__zlUmfgi_xFzhTbGgGhJ_5RjVGio=&amp;h=300&amp;w=428&amp;sz=30&amp;hl=en&amp;start=21&amp;tbnid=DGLFFDGulXZsrM:&amp;tbnh=88&amp;tbnw=126&amp;prev=/images?q=grand&amp;gbv=2&amp;ndsp=20&amp;hl=en&amp;sa=N&amp;start=20" TargetMode="External"/><Relationship Id="rId14" Type="http://schemas.openxmlformats.org/officeDocument/2006/relationships/image" Target="../media/image21.jpeg"/><Relationship Id="rId15" Type="http://schemas.openxmlformats.org/officeDocument/2006/relationships/hyperlink" Target="http://images.google.com/imgres?imgurl=http://www.uncrate.com/men/images/2006/10/avion-tv-stand.jpg&amp;imgrefurl=http://www.uncrate.com/men/home/furniture/avion-8527-tv-stand/&amp;usg=__W4Nu0p00vpqkQZEvKwVeGZ1Skks=&amp;h=386&amp;w=470&amp;sz=39&amp;hl=en&amp;start=1&amp;tbnid=GFtvFFbgJlkG9M:&amp;tbnh=106&amp;tbnw=129&amp;prev=/images?q=tv+stand&amp;gbv=2&amp;hl=en" TargetMode="External"/><Relationship Id="rId16" Type="http://schemas.openxmlformats.org/officeDocument/2006/relationships/image" Target="../media/image22.jpeg"/><Relationship Id="rId17" Type="http://schemas.openxmlformats.org/officeDocument/2006/relationships/hyperlink" Target="http://images.google.com/imgres?imgurl=http://z.about.com/d/jewelry/1/0/W/H/multi_strand_pearls.jpg&amp;imgrefurl=http://jewelry.about.com/od/fashionjewelry/tp/chain_necklaces.htm&amp;usg=__BJFAAfJfkhKyv5jgIoh3_iVXBl4=&amp;h=403&amp;w=525&amp;sz=51&amp;hl=en&amp;start=80&amp;tbnid=wPt2N_yCLHdnOM:&amp;tbnh=101&amp;tbnw=132&amp;prev=/images?q=strand&amp;gbv=2&amp;ndsp=20&amp;hl=en&amp;sa=N&amp;start=60" TargetMode="External"/><Relationship Id="rId18" Type="http://schemas.openxmlformats.org/officeDocument/2006/relationships/image" Target="../media/image23.jpeg"/><Relationship Id="rId1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ps.gov/slbe/planyourvisit/images/port_o_fair_wagon_ride_kk_4.jpg&amp;imgrefurl=http://www.nps.gov/slbe/planyourvisit/portoneida.htm&amp;usg=__M4YJffpQT9Fjjxqs-XVbQDybY5I=&amp;h=300&amp;w=415&amp;sz=97&amp;hl=en&amp;start=54&amp;tbnid=aQRdCwMBLekb5M:&amp;tbnh=90&amp;tbnw=125&amp;prev=/images?q=ride&amp;gbv=2&amp;ndsp=20&amp;hl=en&amp;sa=N&amp;start=40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images.google.com/imgres?imgurl=http://www.alaska-in-pictures.com/data/media/19/bore-tide_3389.jpg&amp;imgrefurl=http://www.alaska-in-pictures.com/bore-tide-3389-pictures.htm&amp;usg=__2Cbad9UDuFq_Jo9e_UaVl9uyBWc=&amp;h=315&amp;w=468&amp;sz=57&amp;hl=en&amp;start=7&amp;tbnid=LelUA6j0dVqlRM:&amp;tbnh=86&amp;tbnw=128&amp;prev=/images?q=tide&amp;gbv=2&amp;hl=en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images.google.com/imgres?imgurl=http://www.englishonline.org.cn/files/chide.jpg&amp;imgrefurl=http://www.englishonline.org.cn/en/learners/word-of-the-day/chide&amp;usg=__07jYjRSYRpwvoGXPDSXbwsBmEyE=&amp;h=205&amp;w=290&amp;sz=9&amp;hl=en&amp;start=1&amp;tbnid=emRsSr8kXXb1fM:&amp;tbnh=81&amp;tbnw=115&amp;prev=/images?q=chide&amp;gbv=2&amp;hl=en" TargetMode="External"/><Relationship Id="rId6" Type="http://schemas.openxmlformats.org/officeDocument/2006/relationships/image" Target="../media/image28.jpeg"/><Relationship Id="rId7" Type="http://schemas.openxmlformats.org/officeDocument/2006/relationships/hyperlink" Target="http://images.google.com/imgres?imgurl=http://www.warrenwindsports.com.au/files/photos/hang-glide-dee-kramer-fly.jpg&amp;imgrefurl=http://www.mybucketlist.ws/?p=166&amp;usg=__9hNJfYa1ZK2ktQy2UweMbkld13o=&amp;h=301&amp;w=450&amp;sz=20&amp;hl=en&amp;start=3&amp;tbnid=Vv9_qaDmXf_VTM:&amp;tbnh=85&amp;tbnw=127&amp;prev=/images?q=glide&amp;gbv=2&amp;ndsp=20&amp;hl=en&amp;sa=N" TargetMode="External"/><Relationship Id="rId8" Type="http://schemas.openxmlformats.org/officeDocument/2006/relationships/image" Target="../media/image29.jpeg"/><Relationship Id="rId9" Type="http://schemas.openxmlformats.org/officeDocument/2006/relationships/hyperlink" Target="http://images.google.com/imgres?imgurl=http://farm4.static.flickr.com/3061/2630518763_8a4c7f3e14.jpg&amp;imgrefurl=http://www.flickr.com/photos/michael_donna/2630518763/&amp;usg=__COZfYVI-XwVacOSs2WpXgY7e4OY=&amp;h=378&amp;w=500&amp;sz=175&amp;hl=en&amp;start=28&amp;tbnid=JvR598ZSUo3K3M:&amp;tbnh=98&amp;tbnw=130&amp;prev=/images?q=prideof+lions&amp;gbv=2&amp;ndsp=20&amp;hl=en&amp;sa=N&amp;start=20" TargetMode="External"/><Relationship Id="rId10" Type="http://schemas.openxmlformats.org/officeDocument/2006/relationships/image" Target="../media/image30.jpeg"/><Relationship Id="rId11" Type="http://schemas.openxmlformats.org/officeDocument/2006/relationships/hyperlink" Target="http://images.google.com/imgres?imgurl=http://www.jumphouses.com/bouncehousesforsale/inflatable%20slide%2018.jpg&amp;imgrefurl=http://www.destructoid.com/blogs/DtoidLosAngeles&amp;usg=__P-omYKTvIv-T01vBO6EIVs5QrXU=&amp;h=475&amp;w=500&amp;sz=25&amp;hl=en&amp;start=41&amp;tbnid=rihobjXApYVXAM:&amp;tbnh=123&amp;tbnw=130&amp;prev=/images?q=slide&amp;gbv=2&amp;ndsp=20&amp;hl=en&amp;sa=N&amp;start=40" TargetMode="External"/><Relationship Id="rId12" Type="http://schemas.openxmlformats.org/officeDocument/2006/relationships/image" Target="../media/image31.jpeg"/><Relationship Id="rId13" Type="http://schemas.openxmlformats.org/officeDocument/2006/relationships/hyperlink" Target="http://images.google.com/imgres?imgurl=http://www.umpires.tv/images/armchair/delivery_stride.jpg&amp;imgrefurl=http://www.umpires.tv/armchair/delivery_stride.html&amp;usg=__s_DJNgy_g1A4xNYbzQ_kCHSi540=&amp;h=298&amp;w=281&amp;sz=22&amp;hl=en&amp;start=53&amp;tbnid=HTQtLTpS7mrlIM:&amp;tbnh=116&amp;tbnw=109&amp;prev=/images?q=stride&amp;gbv=2&amp;ndsp=20&amp;hl=en&amp;sa=N&amp;start=40" TargetMode="External"/><Relationship Id="rId14" Type="http://schemas.openxmlformats.org/officeDocument/2006/relationships/image" Target="../media/image32.jpeg"/><Relationship Id="rId1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7.xml"/><Relationship Id="rId2" Type="http://schemas.openxmlformats.org/officeDocument/2006/relationships/slide" Target="slide78.xml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6.xml"/><Relationship Id="rId2" Type="http://schemas.openxmlformats.org/officeDocument/2006/relationships/hyperlink" Target="http://images.google.com/imgres?imgurl=http://www.glasgowarchitecture.co.uk/jpgs/broomielaw_eastwestlink_make_120407.jpg&amp;imgrefurl=http://www.glasgowarchitecture.co.uk/broomielaw_make.htm&amp;usg=__bV6ah7xtQ0_rmCi2d1uxFJ2-mX0=&amp;h=800&amp;w=800&amp;sz=113&amp;hl=en&amp;start=22&amp;tbnid=zmsmbSiSoJthDM:&amp;tbnh=143&amp;tbnw=143&amp;prev=/images?q=city+block&amp;start=20&amp;gbv=2&amp;ndsp=20&amp;hl=en&amp;sa=N" TargetMode="External"/><Relationship Id="rId3" Type="http://schemas.openxmlformats.org/officeDocument/2006/relationships/image" Target="../media/image33.jpeg"/><Relationship Id="rId4" Type="http://schemas.openxmlformats.org/officeDocument/2006/relationships/hyperlink" Target="http://images.google.com/imgres?imgurl=http://www.wizards.com/dnd/images/mapofweek/CityBlock.jpg&amp;imgrefurl=http://forum.rpg.net/showthread.php?t=210187&amp;usg=__abi0aJeLC_lkrWG8VBqmljmNaJw=&amp;h=814&amp;w=620&amp;sz=163&amp;hl=en&amp;start=27&amp;tbnid=xduC85MfSv-fyM:&amp;tbnh=144&amp;tbnw=110&amp;prev=/images?q=city+block&amp;start=20&amp;gbv=2&amp;ndsp=20&amp;hl=en&amp;sa=N" TargetMode="External"/><Relationship Id="rId5" Type="http://schemas.openxmlformats.org/officeDocument/2006/relationships/image" Target="../media/image34.jpeg"/><Relationship Id="rId6" Type="http://schemas.openxmlformats.org/officeDocument/2006/relationships/hyperlink" Target="http://images.google.com/imgres?imgurl=http://farm3.static.flickr.com/2041/1581627128_baef6bb7b6.jpg&amp;imgrefurl=http://www.flickr.com/photos/reijnj/1581627128/&amp;usg=__-_GpSOUnoKkCPuHsOZI8fSQALpM=&amp;h=375&amp;w=500&amp;sz=180&amp;hl=en&amp;start=32&amp;tbnid=Rd5z19Z048wCsM:&amp;tbnh=98&amp;tbnw=130&amp;prev=/images?q=city+block&amp;start=20&amp;gbv=2&amp;ndsp=20&amp;hl=en&amp;sa=N" TargetMode="External"/><Relationship Id="rId7" Type="http://schemas.openxmlformats.org/officeDocument/2006/relationships/image" Target="../media/image35.jpeg"/><Relationship Id="rId8" Type="http://schemas.openxmlformats.org/officeDocument/2006/relationships/hyperlink" Target="http://images.google.com/imgres?imgurl=http://brokensidewalk.com/wp-content/uploads/2008/05/jeffersonst_garage_02.jpg&amp;imgrefurl=http://brokensidewalk.com/2008/05/&amp;usg=__AeFHy42Kz2d4HreJ4u6aNbsj6-g=&amp;h=470&amp;w=500&amp;sz=365&amp;hl=en&amp;start=136&amp;tbnid=-vuxJzxkGIVuPM:&amp;tbnh=122&amp;tbnw=130&amp;prev=/images?q=city+block&amp;start=120&amp;gbv=2&amp;ndsp=20&amp;hl=en&amp;sa=N" TargetMode="External"/><Relationship Id="rId9" Type="http://schemas.openxmlformats.org/officeDocument/2006/relationships/image" Target="../media/image36.jpeg"/><Relationship Id="rId10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48.xml"/><Relationship Id="rId3" Type="http://schemas.openxmlformats.org/officeDocument/2006/relationships/slide" Target="slide86.xml"/><Relationship Id="rId4" Type="http://schemas.openxmlformats.org/officeDocument/2006/relationships/slide" Target="slide117.xml"/><Relationship Id="rId5" Type="http://schemas.openxmlformats.org/officeDocument/2006/relationships/slide" Target="slide136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663120"/>
            <a:ext cx="687060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Why are some changes difficul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828800"/>
            <a:ext cx="3774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26" descr="I Like Where I Am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1981080"/>
            <a:ext cx="4067280" cy="45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133720" y="1828800"/>
          <a:ext cx="5943600" cy="418788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Everybody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goes through changes.  We grow older.  We </a:t>
                      </a:r>
                      <a:r>
                        <a:rPr b="0" lang="en-US" sz="32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move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a different </a:t>
                      </a:r>
                      <a:r>
                        <a:rPr b="1" lang="en-US" sz="32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school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r town.  We even change </a:t>
                      </a:r>
                      <a:r>
                        <a:rPr b="1" lang="en-US" sz="32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friends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 Why are some changes difficult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do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w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w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do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w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w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do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w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w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w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do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w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w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w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do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w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w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w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do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w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w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w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895480" y="1066680"/>
          <a:ext cx="3429000" cy="541044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54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ou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uck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l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ual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have you done that helped someone else who was in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roubl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are some things that make you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huckl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are some people, places, and things that can be found on th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lock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where you liv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wer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i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hat things could you do that you can’t do now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and your friend had a pile of toys, how could you b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ai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bout sharing them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re sometimes when people cr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ea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kinds of things could you do if you were reall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533520" y="1523880"/>
          <a:ext cx="2590560" cy="307836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n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3581280" y="1752480"/>
          <a:ext cx="4724640" cy="4653000"/>
        </p:xfrm>
        <a:graphic>
          <a:graphicData uri="http://schemas.openxmlformats.org/drawingml/2006/table">
            <a:tbl>
              <a:tblPr/>
              <a:tblGrid>
                <a:gridCol w="4724640"/>
              </a:tblGrid>
              <a:tr h="465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y          f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ise        enj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yal        dest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ist        loy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oil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mploy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wboy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rdu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oil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urquo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02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Today we will learn about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391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mazing Wo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thongs: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i, 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ot and The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iz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erbs that Tell When and W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ord Family Word – keep</a:t>
            </a:r>
            <a:br>
              <a:rPr sz="4000"/>
            </a:br>
            <a:r>
              <a:rPr b="0" lang="en-US" sz="1400" spc="-1" strike="noStrike" u="sng">
                <a:solidFill>
                  <a:srgbClr val="00b20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398600" y="1952640"/>
          <a:ext cx="6111720" cy="4389480"/>
        </p:xfrm>
        <a:graphic>
          <a:graphicData uri="http://schemas.openxmlformats.org/drawingml/2006/table">
            <a:tbl>
              <a:tblPr/>
              <a:tblGrid>
                <a:gridCol w="2036880"/>
                <a:gridCol w="2038320"/>
                <a:gridCol w="2036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703d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b2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r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w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ord Family Word – kee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6" name="Picture 2" descr="http://tbn1.google.com/images?q=tbn:WZ1pibzxUIPdZM:http://www.psychobabyonline.com/site/scpics/tmb/2046/beep_bee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82880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http://tbn2.google.com/images?q=tbn:c-qG-qsH87ysqM:http://1.bp.blogspot.com/_7Xqyf86iB7o/Sccfi6x4e1I/AAAAAAAAACk/sbDf2cGFge4/s400/Peep%2Bart%2Bnot%2Bfor%2Bkid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09680" y="1905120"/>
            <a:ext cx="1422360" cy="10666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http://tbn2.google.com/images?q=tbn:_oQaCpHU9EqAEM:http://media.monstersandcritics.com/galleries/1208488/013512155008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14600" y="3809880"/>
            <a:ext cx="1066680" cy="16002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http://tbn0.google.com/images?q=tbn:vFp42oDGf0c6AM:http://itech.dickinson.edu/chemistry/wp-content/uploads/2008/05/flock_of_sheep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43000" y="3657600"/>
            <a:ext cx="1055520" cy="1600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http://tbn0.google.com/images?q=tbn:5qnsGUHYtM7-pM:http://fortyhumans.files.wordpress.com/2007/08/cheep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629400" y="19051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2" descr="http://tbn3.google.com/images?q=tbn:OYhrRVbhPfE43M:http://www.hauntedxing.ca/creep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334120" y="1905120"/>
            <a:ext cx="1019160" cy="1133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4" descr="http://tbn0.google.com/images?q=tbn:TKN8DyYK50vw7M:http://d21c.com/DragonsDreams/gar/Sleep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733920" y="190512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6" descr="http://tbn1.google.com/images?q=tbn:VjcBIiYZBDp0NM:http://i.ehow.com/images/GlobalPhoto/Articles/2198837/16-main_Full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114800" y="3886200"/>
            <a:ext cx="1731960" cy="1295280"/>
          </a:xfrm>
          <a:prstGeom prst="rect">
            <a:avLst/>
          </a:prstGeom>
          <a:ln w="0">
            <a:noFill/>
          </a:ln>
        </p:spPr>
      </p:pic>
      <p:sp>
        <p:nvSpPr>
          <p:cNvPr id="434" name="TextBox 11"/>
          <p:cNvSpPr/>
          <p:nvPr/>
        </p:nvSpPr>
        <p:spPr>
          <a:xfrm>
            <a:off x="903960" y="3048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TextBox 12"/>
          <p:cNvSpPr/>
          <p:nvPr/>
        </p:nvSpPr>
        <p:spPr>
          <a:xfrm>
            <a:off x="2419200" y="29718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TextBox 13"/>
          <p:cNvSpPr/>
          <p:nvPr/>
        </p:nvSpPr>
        <p:spPr>
          <a:xfrm>
            <a:off x="3958200" y="304812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TextBox 14"/>
          <p:cNvSpPr/>
          <p:nvPr/>
        </p:nvSpPr>
        <p:spPr>
          <a:xfrm>
            <a:off x="5337360" y="304812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TextBox 15"/>
          <p:cNvSpPr/>
          <p:nvPr/>
        </p:nvSpPr>
        <p:spPr>
          <a:xfrm>
            <a:off x="6845400" y="304812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TextBox 16"/>
          <p:cNvSpPr/>
          <p:nvPr/>
        </p:nvSpPr>
        <p:spPr>
          <a:xfrm>
            <a:off x="1125360" y="518148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e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TextBox 17"/>
          <p:cNvSpPr/>
          <p:nvPr/>
        </p:nvSpPr>
        <p:spPr>
          <a:xfrm>
            <a:off x="2567880" y="54100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TextBox 18"/>
          <p:cNvSpPr/>
          <p:nvPr/>
        </p:nvSpPr>
        <p:spPr>
          <a:xfrm>
            <a:off x="4430160" y="51814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TextBox 19"/>
          <p:cNvSpPr/>
          <p:nvPr/>
        </p:nvSpPr>
        <p:spPr>
          <a:xfrm>
            <a:off x="6603480" y="51814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we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3" name="Picture 20" descr="http://tbn2.google.com/images?q=tbn:WJ-2XCNqLdLheM:http://wrigleyville23.com/assets_c/2009/06/sweep-thumb-437x437-17421.pn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553080" y="37720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Synonym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onyms are words that have the same meaning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movers put a 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gian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box onto the truck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are some synonyms for gian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are some synonyms for 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chuckl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strong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aily Fix-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here that nois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Did you hear that no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wave destroy my sandcast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 wave destroyed my sandcastl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erbs tell more about a verb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adverbs show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la drove her car 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Comic Sans MS"/>
              </a:rPr>
              <a:t>to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70c0"/>
                </a:solidFill>
                <a:uFillTx/>
                <a:latin typeface="Comic Sans MS"/>
              </a:rPr>
              <a:t>To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ell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la drove her car 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Comic Sans MS"/>
              </a:rPr>
              <a:t>downtow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70c0"/>
                </a:solidFill>
                <a:uFillTx/>
                <a:latin typeface="Comic Sans MS"/>
              </a:rPr>
              <a:t>Downtow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ells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Wrap Up Your Day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uenc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Talk About 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morrow we will read another story about chang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Wednes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137160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k children to write a paragraph about the strongest person they know.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ursda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981080" y="1828800"/>
          <a:ext cx="6096240" cy="40910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0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day we will read Colleen’s e-mail.  At first she felt unhappy about moving to a new house, but after some time passed, she reconsidered.  What are some good things about change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ursda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1981080" y="1828800"/>
          <a:ext cx="6096240" cy="40910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0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day we will read Colleen’s e-mail.  At first she felt </a:t>
                      </a:r>
                      <a:r>
                        <a:rPr b="1" lang="en-US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unhappy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bout moving to a new house, but after some time passed, she </a:t>
                      </a:r>
                      <a:r>
                        <a:rPr b="1" lang="en-US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reconsidered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 What are some good things about change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Today we will learn about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thongs oi, 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erbs That Tell When and W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to Deliver a Repor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  <a:ea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676520" y="2971800"/>
          <a:ext cx="6095880" cy="114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2895480" y="1295280"/>
          <a:ext cx="2895840" cy="4653000"/>
        </p:xfrm>
        <a:graphic>
          <a:graphicData uri="http://schemas.openxmlformats.org/drawingml/2006/table">
            <a:tbl>
              <a:tblPr/>
              <a:tblGrid>
                <a:gridCol w="2895840"/>
              </a:tblGrid>
              <a:tr h="50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ju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nd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expe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eig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lo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Read-Alou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rand New K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Sentence Rea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got up early so I could enjoy a full game of football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need to warm a cup of milk and boil the pudding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ok, one of my eyes has a cut underneath i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Sentence Rea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must put the pail of water and the pile of wood near the soil for the garde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at cookie is full of sugar,” said Uncle Gus in a playful voi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st summer some boys and I took care of a bulldog and other animal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33520" y="1523880"/>
          <a:ext cx="2590560" cy="307836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n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3581280" y="1752480"/>
          <a:ext cx="4724640" cy="4653000"/>
        </p:xfrm>
        <a:graphic>
          <a:graphicData uri="http://schemas.openxmlformats.org/drawingml/2006/table">
            <a:tbl>
              <a:tblPr/>
              <a:tblGrid>
                <a:gridCol w="4724640"/>
              </a:tblGrid>
              <a:tr h="465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y          f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ise        enj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yal        dest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ist        loy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oil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mploy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wboy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rdu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oil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urquo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ord Family Word – kneel</a:t>
            </a:r>
            <a:br>
              <a:rPr sz="4000"/>
            </a:br>
            <a:r>
              <a:rPr b="0" lang="en-US" sz="1400" spc="-1" strike="noStrike" u="sng">
                <a:solidFill>
                  <a:srgbClr val="00b20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1398600" y="1952640"/>
          <a:ext cx="6111720" cy="3730680"/>
        </p:xfrm>
        <a:graphic>
          <a:graphicData uri="http://schemas.openxmlformats.org/drawingml/2006/table">
            <a:tbl>
              <a:tblPr/>
              <a:tblGrid>
                <a:gridCol w="2036880"/>
                <a:gridCol w="2038320"/>
                <a:gridCol w="2036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703d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b2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wh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r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ord Family Word – kne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3" name="Picture 2" descr="http://tbn3.google.com/images?q=tbn:YwTzDeSYBtxzTM:http://www.alternative-footwear.co.uk/shoes/shoes_files/image001.jpg"/>
          <p:cNvPicPr/>
          <p:nvPr/>
        </p:nvPicPr>
        <p:blipFill>
          <a:blip r:embed="rId1"/>
          <a:stretch/>
        </p:blipFill>
        <p:spPr>
          <a:xfrm>
            <a:off x="228600" y="1981080"/>
            <a:ext cx="1085760" cy="11811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" descr="http://tbn1.google.com/images?q=tbn:YB0lN2d86GnLPM:http://www.incbiznet.com/files/05%252016%252005%2520AW-Heel%2520Before-After%25201%2520HR.jpg"/>
          <p:cNvPicPr/>
          <p:nvPr/>
        </p:nvPicPr>
        <p:blipFill>
          <a:blip r:embed="rId2"/>
          <a:stretch/>
        </p:blipFill>
        <p:spPr>
          <a:xfrm>
            <a:off x="1676520" y="2057400"/>
            <a:ext cx="1428480" cy="10191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http://tbn0.google.com/images?q=tbn:9HAwQUStxDRFqM:http://www.beneteau235.com/images/f235_lead_keel%25202.jpg"/>
          <p:cNvPicPr/>
          <p:nvPr/>
        </p:nvPicPr>
        <p:blipFill>
          <a:blip r:embed="rId3"/>
          <a:stretch/>
        </p:blipFill>
        <p:spPr>
          <a:xfrm>
            <a:off x="3581280" y="1981080"/>
            <a:ext cx="933480" cy="13906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8" descr="http://tbn1.google.com/images?q=tbn:BVCdgOzG-hePAM:http://i.ehow.com/images/GlobalPhoto/Articles/2267909/recycle-citrus-peel-title-main_Full.jpg"/>
          <p:cNvPicPr/>
          <p:nvPr/>
        </p:nvPicPr>
        <p:blipFill>
          <a:blip r:embed="rId4"/>
          <a:stretch/>
        </p:blipFill>
        <p:spPr>
          <a:xfrm>
            <a:off x="4952880" y="2057400"/>
            <a:ext cx="1295640" cy="9763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http://tbn3.google.com/images?q=tbn:cC9LeELPSuYyfM:http://upload.wikimedia.org/wikipedia/commons/thumb/e/e7/Fishing_reel.svg/698px-Fishing_reel.svg.png"/>
          <p:cNvPicPr/>
          <p:nvPr/>
        </p:nvPicPr>
        <p:blipFill>
          <a:blip r:embed="rId5"/>
          <a:stretch/>
        </p:blipFill>
        <p:spPr>
          <a:xfrm>
            <a:off x="2819520" y="4038480"/>
            <a:ext cx="1323720" cy="11336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4" descr="http://tbn1.google.com/images?q=tbn:GNTp1XA6IFigYM:http://www.kenrockwell.com/mercedes/e430/images/wheel-KEN_7994.jpg"/>
          <p:cNvPicPr/>
          <p:nvPr/>
        </p:nvPicPr>
        <p:blipFill>
          <a:blip r:embed="rId6"/>
          <a:stretch/>
        </p:blipFill>
        <p:spPr>
          <a:xfrm>
            <a:off x="4952880" y="4191120"/>
            <a:ext cx="1285920" cy="895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6" descr="http://tbn2.google.com/images?q=tbn:fqKCqwGp_asBCM:http://www.artofthecreel.com/images/creel9a.JPG"/>
          <p:cNvPicPr/>
          <p:nvPr/>
        </p:nvPicPr>
        <p:blipFill>
          <a:blip r:embed="rId7"/>
          <a:stretch/>
        </p:blipFill>
        <p:spPr>
          <a:xfrm>
            <a:off x="7010280" y="4114800"/>
            <a:ext cx="1019160" cy="11523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8" descr="http://tbn1.google.com/images?q=tbn:p10p2CRNHs61BM:http://202.38.70.95/ocw/NR/rdonlyres/Global/6/695E8EC6-5161-4B05-B6F1-8BE09DC40F68/0/chp_steel_struct.jpg"/>
          <p:cNvPicPr/>
          <p:nvPr/>
        </p:nvPicPr>
        <p:blipFill>
          <a:blip r:embed="rId8"/>
          <a:stretch/>
        </p:blipFill>
        <p:spPr>
          <a:xfrm>
            <a:off x="6705720" y="2057400"/>
            <a:ext cx="1331640" cy="990720"/>
          </a:xfrm>
          <a:prstGeom prst="rect">
            <a:avLst/>
          </a:prstGeom>
          <a:ln w="0">
            <a:noFill/>
          </a:ln>
        </p:spPr>
      </p:pic>
      <p:sp>
        <p:nvSpPr>
          <p:cNvPr id="481" name="TextBox 11"/>
          <p:cNvSpPr/>
          <p:nvPr/>
        </p:nvSpPr>
        <p:spPr>
          <a:xfrm>
            <a:off x="990720" y="320040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3584160" y="335268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TextBox 13"/>
          <p:cNvSpPr/>
          <p:nvPr/>
        </p:nvSpPr>
        <p:spPr>
          <a:xfrm>
            <a:off x="5171400" y="30481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TextBox 14"/>
          <p:cNvSpPr/>
          <p:nvPr/>
        </p:nvSpPr>
        <p:spPr>
          <a:xfrm>
            <a:off x="6954120" y="30481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Box 15"/>
          <p:cNvSpPr/>
          <p:nvPr/>
        </p:nvSpPr>
        <p:spPr>
          <a:xfrm>
            <a:off x="3216240" y="5181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Box 16"/>
          <p:cNvSpPr/>
          <p:nvPr/>
        </p:nvSpPr>
        <p:spPr>
          <a:xfrm>
            <a:off x="5015160" y="510552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TextBox 17"/>
          <p:cNvSpPr/>
          <p:nvPr/>
        </p:nvSpPr>
        <p:spPr>
          <a:xfrm>
            <a:off x="7032600" y="52578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3" descr="Student Pages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7631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aily Fix-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ood friend is loial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 good friend is loyal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dee make that sound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Did Dee make that soun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  <a:ea typeface="Arial"/>
              </a:rPr>
              <a:t>adjus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ad – just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When you get used to a new situation, you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adju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to it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When you change or move something to make it fit or make it better, you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adju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children will soon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adju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to their new sch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We’ll have to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adju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to the snowy wea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lease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adju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the 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of the TV so we can see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verbs tell more about a verb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me adverbs show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mething happen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Speaking and Listening:  How to Deliver a Re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many different kinds of 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repor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—news reports, weather report, oral book report to the clas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repor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ually tells facts about a topi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language should be matched to your audi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Speaking and Listening:  How to Deliver a Re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380880" y="1828800"/>
          <a:ext cx="8001000" cy="3429000"/>
        </p:xfrm>
        <a:graphic>
          <a:graphicData uri="http://schemas.openxmlformats.org/drawingml/2006/table">
            <a:tbl>
              <a:tblPr/>
              <a:tblGrid>
                <a:gridCol w="4800600"/>
                <a:gridCol w="320040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Spea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Listener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 appropriate language and word choice for the audience and the occasio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eak clear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 body language that matches your wor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Speaking and Listening:  How to Deliver a Re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380880" y="1828800"/>
          <a:ext cx="8001000" cy="3429000"/>
        </p:xfrm>
        <a:graphic>
          <a:graphicData uri="http://schemas.openxmlformats.org/drawingml/2006/table">
            <a:tbl>
              <a:tblPr/>
              <a:tblGrid>
                <a:gridCol w="4800600"/>
                <a:gridCol w="320040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Spea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Listener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 appropriate language and word choice for the audience and the occasio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eak clear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 body language that matches your wor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b8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Sit quiet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b8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Face the speake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b8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Listen to what the speaker say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Wrap Up Your Day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ing Connections; Text to Sel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Talk About 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ies we read this week were about changes.  We will learn more about this topic tomorrow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ursda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752480" y="213372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st different landmark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your state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rida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981080" y="1828800"/>
          <a:ext cx="6096240" cy="4187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s week we read about things being different.  Being in a new place or meeting someone new is hard sometimes.  What can make change easier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Today we will learn about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thongs oi, 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erbs That Tell When and W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-Ma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2895480" y="1295280"/>
          <a:ext cx="2895840" cy="4653000"/>
        </p:xfrm>
        <a:graphic>
          <a:graphicData uri="http://schemas.openxmlformats.org/drawingml/2006/table">
            <a:tbl>
              <a:tblPr/>
              <a:tblGrid>
                <a:gridCol w="2895840"/>
              </a:tblGrid>
              <a:tr h="50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ju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nd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expe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eig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lo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Read-Alou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rand New K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  <a:ea typeface="Arial"/>
              </a:rPr>
              <a:t>landmar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land - mark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landmar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can be any natural or human-made feature such as a building, a statue, a bridge, or a tree that identifies a location and can serve as a guide for direc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ea typeface="Arial"/>
                <a:hlinkClick r:id="rId1" action="ppaction://hlinksldjump"/>
              </a:rPr>
              <a:t>Great Salt Lak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s a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landmar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in Uta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ea typeface="Arial"/>
                <a:hlinkClick r:id="rId2" action="ppaction://hlinksldjump"/>
              </a:rPr>
              <a:t>Fisherman’s Wharf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s a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landmar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in San Francisc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ea typeface="Arial"/>
                <a:hlinkClick r:id="rId3" action="ppaction://hlinksldjump"/>
              </a:rPr>
              <a:t>Empire State Buil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s a New York City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landmar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ea typeface="Arial"/>
                <a:hlinkClick r:id="rId4" action="ppaction://hlinksldjump"/>
              </a:rPr>
              <a:t>(next word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533520" y="1523880"/>
          <a:ext cx="2590560" cy="307836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n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581280" y="1752480"/>
          <a:ext cx="4724640" cy="4653000"/>
        </p:xfrm>
        <a:graphic>
          <a:graphicData uri="http://schemas.openxmlformats.org/drawingml/2006/table">
            <a:tbl>
              <a:tblPr/>
              <a:tblGrid>
                <a:gridCol w="4724640"/>
              </a:tblGrid>
              <a:tr h="465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y          f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ise        enj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yal        dest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ist        loy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oil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mploy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wboy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rdu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oil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urquo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mic Sans MS"/>
              </a:rPr>
              <a:t>Dipthongs oi, o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d you broil the oysters and the sirloin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am full of joy when I avoid a bad choice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roy is the boy with the good voi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 got oil on her new toy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895480" y="1066680"/>
          <a:ext cx="3429000" cy="541044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54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ou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uck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l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ual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Vocabulary Words</a:t>
            </a:r>
            <a:br>
              <a:rPr sz="4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trong, trouble, chuckle, block, tears, giant, fa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family went to the county 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bought a ___red balloon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___gust of wind whipped through the ai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stole my balloon without any ___ or ca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blew the balloon around the ___ and into a tre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___here, because what did I se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had to ____ --my balloon came back to m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hyming Words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family went to the coun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a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bought a giant red balloo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trong gust of wind whipped through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stole my balloon without any trouble or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blew the balloon around the block and into a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tr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tears here, because what did I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had to chuckle—my balloon came back to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2971800" y="1523880"/>
          <a:ext cx="3124080" cy="373392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37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ar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228240" y="-360"/>
            <a:ext cx="80773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aily Fix-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 collect baseball c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am collects baseball card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r team win the g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Did your team win the gam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Technology: E-mai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you have information you need to share with someone else, you may make a phone call or write a not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can use technology to communicate with oth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Technology: E-mai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use e-mail to send messages to my frien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e-mail is like a letter, but it is sent through the Internet and not through the postal ser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 an e-mail address that I use to send and receive messag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type my friend’s e-mail address into the To box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type the topic of the message in the Subject l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way my friend will know what the message is about before opening 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’s send an e-mail to the principal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rap Up Your Week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1599840" y="35809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’s Talk Abou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Changing Wor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457200"/>
            <a:ext cx="6676920" cy="50385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Great Salt Lake Uta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rida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14479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rite a paragraph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ut something funn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T Plus Video:  Password Requir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othy Goes to Sch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We are now ready to </a:t>
            </a:r>
            <a:br>
              <a:rPr sz="4400"/>
            </a:b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take our story test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057040" y="190476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Story t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Classroom webpage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tudent page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aking Te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ther Reading Quizz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Quiz # 90462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Fisherman’s Whar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5" descr="fishermans-wharf-pictur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1219320"/>
            <a:ext cx="3581640" cy="2361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1219320"/>
            <a:ext cx="3181320" cy="2128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Wharf-fleet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52480" y="3733920"/>
            <a:ext cx="3124440" cy="1973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Fishermans_Wharf_aerial_view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029200" y="3505320"/>
            <a:ext cx="32576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Empire State Buil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5" descr="EmpireStateBuild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1600200"/>
            <a:ext cx="4227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  <a:ea typeface="Arial"/>
              </a:rPr>
              <a:t>unexpecte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un – ex – pect - ed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Something that comes as a surprise or something you do not think will happen is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unexpec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rainstorm was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unexpec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We had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unexpec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company yester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surprise party was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unexpec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2133720" cy="419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listen to a  song about moving to a new pla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2" descr="We Are Moving"/>
          <p:cNvPicPr/>
          <p:nvPr/>
        </p:nvPicPr>
        <p:blipFill>
          <a:blip r:embed="rId1"/>
          <a:srcRect l="3049" t="0" r="0" b="18326"/>
          <a:stretch/>
        </p:blipFill>
        <p:spPr>
          <a:xfrm>
            <a:off x="3357720" y="228600"/>
            <a:ext cx="5557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03d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66560" y="2368440"/>
            <a:ext cx="6334200" cy="23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dff"/>
                </a:solidFill>
                <a:latin typeface="Comic Sans MS"/>
              </a:rPr>
              <a:t>Small Grou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 Time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mic Sans MS"/>
              </a:rPr>
              <a:t>Dipthongs: </a:t>
            </a:r>
            <a:r>
              <a:rPr b="1" i="1" lang="en-US" sz="4400" spc="-1" strike="noStrike">
                <a:solidFill>
                  <a:srgbClr val="0070c0"/>
                </a:solidFill>
                <a:latin typeface="Comic Sans MS"/>
              </a:rPr>
              <a:t>oi, o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south - co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do you know about reading these word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vowels </a:t>
            </a: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ou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ow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can stand for the sound /</a:t>
            </a: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ou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/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day we will study vowels </a:t>
            </a: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o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o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nd the sound they can stand f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86200" y="304920"/>
            <a:ext cx="4191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etters oi and oy stand for the dipthong  /oi/.  In a dipthong, each vowel contributes to the sound he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o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o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o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o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jo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y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wbo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Content Placeholder 6" descr="card 26.jpg"/>
          <p:cNvPicPr/>
          <p:nvPr/>
        </p:nvPicPr>
        <p:blipFill>
          <a:blip r:embed="rId1"/>
          <a:stretch/>
        </p:blipFill>
        <p:spPr>
          <a:xfrm>
            <a:off x="380880" y="228600"/>
            <a:ext cx="3156120" cy="624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mic Sans MS"/>
              </a:rPr>
              <a:t>Dipthongs: </a:t>
            </a:r>
            <a:r>
              <a:rPr b="1" i="1" lang="en-US" sz="4400" spc="-1" strike="noStrike">
                <a:solidFill>
                  <a:srgbClr val="0070c0"/>
                </a:solidFill>
                <a:latin typeface="Comic Sans MS"/>
              </a:rPr>
              <a:t>oi, o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oi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coi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letters </a:t>
            </a:r>
            <a:r>
              <a:rPr b="1" i="1" lang="en-US" sz="3600" spc="-1" strike="noStrike">
                <a:solidFill>
                  <a:srgbClr val="00b050"/>
                </a:solidFill>
                <a:latin typeface="Comic Sans MS"/>
              </a:rPr>
              <a:t>o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stand for the sound /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o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/ in oil and coil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letters </a:t>
            </a:r>
            <a:r>
              <a:rPr b="1" i="1" lang="en-US" sz="3600" spc="-1" strike="noStrike">
                <a:solidFill>
                  <a:srgbClr val="00b050"/>
                </a:solidFill>
                <a:latin typeface="Comic Sans MS"/>
              </a:rPr>
              <a:t>o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stand for the sound /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o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/ in boy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mic Sans MS"/>
              </a:rPr>
              <a:t>Dipthongs: </a:t>
            </a:r>
            <a:r>
              <a:rPr b="1" i="1" lang="en-US" sz="4400" spc="-1" strike="noStrike">
                <a:solidFill>
                  <a:srgbClr val="0070c0"/>
                </a:solidFill>
                <a:latin typeface="Comic Sans MS"/>
              </a:rPr>
              <a:t>oi, o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828440" y="1828800"/>
            <a:ext cx="262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y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i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tr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o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81480" y="1828800"/>
            <a:ext cx="3200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o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i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y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j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00800" cy="13842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Verdana"/>
              </a:rPr>
              <a:t>Making Wor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85440" y="23619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Verdana"/>
                <a:ea typeface="Arial"/>
              </a:rPr>
              <a:t>a, e, i, o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  <a:ea typeface="Arial"/>
              </a:rPr>
              <a:t>j, n, p, t, y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400" spc="-1" strike="noStrike">
                <a:solidFill>
                  <a:srgbClr val="703dff"/>
                </a:solidFill>
                <a:latin typeface="Comic Sans MS"/>
              </a:rPr>
              <a:t>oi, o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438280" y="1828440"/>
            <a:ext cx="201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ys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o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ou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pl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81480" y="1828440"/>
            <a:ext cx="3200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o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n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y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y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3520" y="1523880"/>
          <a:ext cx="2590560" cy="307836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n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581280" y="1752480"/>
          <a:ext cx="4724640" cy="4653000"/>
        </p:xfrm>
        <a:graphic>
          <a:graphicData uri="http://schemas.openxmlformats.org/drawingml/2006/table">
            <a:tbl>
              <a:tblPr/>
              <a:tblGrid>
                <a:gridCol w="4724640"/>
              </a:tblGrid>
              <a:tr h="465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y          f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ise        enj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yal        dest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ist        loy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oil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mploy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wboy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rdu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oil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urquo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ord Family Word – guess</a:t>
            </a:r>
            <a:br>
              <a:rPr sz="4000"/>
            </a:br>
            <a:r>
              <a:rPr b="0" lang="en-US" sz="1400" spc="-1" strike="noStrike" u="sng">
                <a:solidFill>
                  <a:srgbClr val="00b20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98600" y="1952640"/>
          <a:ext cx="6111720" cy="3071880"/>
        </p:xfrm>
        <a:graphic>
          <a:graphicData uri="http://schemas.openxmlformats.org/drawingml/2006/table">
            <a:tbl>
              <a:tblPr/>
              <a:tblGrid>
                <a:gridCol w="2036880"/>
                <a:gridCol w="2038320"/>
                <a:gridCol w="2036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703d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r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ord Family Word – gu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2" descr="http://tbn1.google.com/images?q=tbn:PVo5bPJs0CQnfM:http://i.ehow.com/images/GlobalPhoto/Articles/2321127/mess-main_Fu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514600"/>
            <a:ext cx="2189160" cy="1447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tbn2.google.com/images?q=tbn:f0-2OAHXmRlQuM:http://www.inloughborough.com/newsimages//2008/02/images/ches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2530440"/>
            <a:ext cx="1828800" cy="1365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http://tbn2.google.com/images?q=tbn:q2COLuDSWFacyM:http://www.legionofmarytidewater.com/extension/bles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2575080"/>
            <a:ext cx="1676520" cy="1253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http://tbn2.google.com/images?q=tbn:9tmipfGr3LZ4YM:http://4.bp.blogspot.com/_NUbPhaVyuGs/R9_-6whLBzI/AAAAAAAABzE/cm4PMtUZ8rY/s400/Twenty8Twelve%2BBy%2Bs.miller%2BOrgandy%2BFrill%2BFront%2BDress%2B290%2B2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29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http://tbn2.google.com/images?q=tbn:BBjmKfLL_8vuMM:http://z.about.com/d/womenshistory/1/0/4/J/bess_truman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15000" y="4572000"/>
            <a:ext cx="1219320" cy="15494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1"/>
          <p:cNvSpPr/>
          <p:nvPr/>
        </p:nvSpPr>
        <p:spPr>
          <a:xfrm>
            <a:off x="1662120" y="3962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3971880" y="38862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6251760" y="3809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Box 14"/>
          <p:cNvSpPr/>
          <p:nvPr/>
        </p:nvSpPr>
        <p:spPr>
          <a:xfrm>
            <a:off x="3667680" y="60199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15"/>
          <p:cNvSpPr/>
          <p:nvPr/>
        </p:nvSpPr>
        <p:spPr>
          <a:xfrm>
            <a:off x="5460480" y="617220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ssTrum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ord Family Word – hand</a:t>
            </a:r>
            <a:br>
              <a:rPr sz="4000"/>
            </a:br>
            <a:r>
              <a:rPr b="0" lang="en-US" sz="1400" spc="-1" strike="noStrike" u="sng">
                <a:solidFill>
                  <a:srgbClr val="00b20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398600" y="1952640"/>
          <a:ext cx="6111720" cy="4389480"/>
        </p:xfrm>
        <a:graphic>
          <a:graphicData uri="http://schemas.openxmlformats.org/drawingml/2006/table">
            <a:tbl>
              <a:tblPr/>
              <a:tblGrid>
                <a:gridCol w="2036880"/>
                <a:gridCol w="2038320"/>
                <a:gridCol w="2036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703d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b200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Online Ga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914400"/>
          <a:ext cx="4267080" cy="449424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488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Vocabulary &amp; Amazing Wor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"/>
                        </a:rPr>
                        <a:t>Arcade Ga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"/>
                        </a:rPr>
                        <a:t>Jigwo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"/>
                        </a:rPr>
                        <a:t>Matchwo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4"/>
                        </a:rPr>
                        <a:t>Speedwo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5"/>
                        </a:rPr>
                        <a:t>Wordsear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6"/>
                        </a:rPr>
                        <a:t>Word We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7"/>
                        </a:rPr>
                        <a:t>Spelling City-Vocabul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8"/>
                        </a:rPr>
                        <a:t>Spelling City-Amaz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800600" y="1752480"/>
          <a:ext cx="3505320" cy="472464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472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Spelling Wor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9"/>
                        </a:rPr>
                        <a:t>Speedwo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0"/>
                        </a:rPr>
                        <a:t>Word We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1"/>
                        </a:rPr>
                        <a:t>Quia Ga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2"/>
                        </a:rPr>
                        <a:t>Spelling 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3"/>
                        </a:rPr>
                        <a:t>Spelling 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ord Family Word – ha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2" descr="http://tbn2.google.com/images?q=tbn:Xe1WsM7WJ-PjaM:http://www.osu.edu/download/images/bigpics/band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905120"/>
            <a:ext cx="1428480" cy="1076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http://tbn1.google.com/images?q=tbn:Ak_9VC6C8QkhkM:http://www.waimeaplan.org/images/state_land_above_waime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1905120"/>
            <a:ext cx="1368360" cy="1028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http://tbn1.google.com/images?q=tbn:a14RhMDaQpr5mM:http://www.cs4fn.org/vlsi/images/sand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91520" y="1905120"/>
            <a:ext cx="914400" cy="14144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http://tbn3.google.com/images?q=tbn:bkKvorY3fiEI9M:http://www.americaslibrary.gov/assets/sh/cowboy/sh_cowboy_branding_2_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38480" y="1905120"/>
            <a:ext cx="1474920" cy="990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http://tbn0.google.com/images?q=tbn:CKasueKpOfB-RM:http://www.abc.net.au/health/library/img/thyroid_gland_diag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943600" y="1905120"/>
            <a:ext cx="1009800" cy="1095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http://tbn3.google.com/images?q=tbn:Hd-LDifgC1C7YM:http://www.kemble-pianos.co.uk/Kemble-grand-piano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876920" y="3733920"/>
            <a:ext cx="1000080" cy="1190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6" descr="http://tbn1.google.com/images?q=tbn:DGLFFDGulXZsrM:http://www.adventurephototours.com/images/gc2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819520" y="3809880"/>
            <a:ext cx="1527120" cy="1067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8" descr="http://tbn3.google.com/images?q=tbn:GFtvFFbgJlkG9M:http://www.uncrate.com/men/images/2006/10/avion-tv-stand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85800" y="3733920"/>
            <a:ext cx="1390680" cy="1143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" descr="http://tbn2.google.com/images?q=tbn:wPt2N_yCLHdnOM:http://z.about.com/d/jewelry/1/0/W/H/multi_strand_pearls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553080" y="3962520"/>
            <a:ext cx="1257480" cy="9619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2"/>
          <p:cNvSpPr/>
          <p:nvPr/>
        </p:nvSpPr>
        <p:spPr>
          <a:xfrm>
            <a:off x="743040" y="2971800"/>
            <a:ext cx="9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2500560" y="29718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4182840" y="28954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5913000" y="29718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Box 16"/>
          <p:cNvSpPr/>
          <p:nvPr/>
        </p:nvSpPr>
        <p:spPr>
          <a:xfrm>
            <a:off x="7371360" y="335268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911520" y="4952880"/>
            <a:ext cx="9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Box 18"/>
          <p:cNvSpPr/>
          <p:nvPr/>
        </p:nvSpPr>
        <p:spPr>
          <a:xfrm>
            <a:off x="2457720" y="4876920"/>
            <a:ext cx="22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nd Cany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Box 19"/>
          <p:cNvSpPr/>
          <p:nvPr/>
        </p:nvSpPr>
        <p:spPr>
          <a:xfrm>
            <a:off x="4858920" y="49528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Box 20"/>
          <p:cNvSpPr/>
          <p:nvPr/>
        </p:nvSpPr>
        <p:spPr>
          <a:xfrm>
            <a:off x="6636960" y="495288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Theme and Plot &amp; Summariz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od  readers pay attention to what happens in the beginning, middle, and end of a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also think about the “Big idea” behind the story as they re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Theme and Plot &amp; Summariz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T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“big idea” a story is abou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Pl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hat happens in the beginning, middle, and end of a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summa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short retelling of a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can summarize what happens at the beginning, middle, and end of a story to help understand and remember what we re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5" descr="Student Pages"/>
          <p:cNvPicPr/>
          <p:nvPr/>
        </p:nvPicPr>
        <p:blipFill>
          <a:blip r:embed="rId1"/>
          <a:stretch/>
        </p:blipFill>
        <p:spPr>
          <a:xfrm>
            <a:off x="-96840" y="0"/>
            <a:ext cx="924084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6868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aily Fix-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wipd my hands on the clo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 wiped my hands on the cloth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hildrin yelled with jo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he children yelled with    jo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erbs tell more about a verb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adverbs show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ool begi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omorro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morrow tell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ll be a a new stude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tells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acked my books yester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acked my book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yester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acked my book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yester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I am packing my toy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acked my book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yester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 am packing my toys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895480" y="1295280"/>
          <a:ext cx="2895840" cy="4653000"/>
        </p:xfrm>
        <a:graphic>
          <a:graphicData uri="http://schemas.openxmlformats.org/drawingml/2006/table">
            <a:tbl>
              <a:tblPr/>
              <a:tblGrid>
                <a:gridCol w="2895840"/>
              </a:tblGrid>
              <a:tr h="50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ju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nd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expe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eig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lo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acked my book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yester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 am packing my toys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ers carry boxes downstai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acked my book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yester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 am packing my toys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ers carry boxe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ownstai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acked my book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yester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 am packing my toys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ers carry boxe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ownstai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ing van is parked outsi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acked my book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yester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 am packing my toys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ers carry boxe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ownstai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ing van is parked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outsid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acked my book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yester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 am packing my toys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ers carry boxe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ownstai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ing van is parked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outsid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on we will go to a new hou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acked my book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yester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 am packing my toys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ers carry boxe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ownstai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ing van is parked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outsid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o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e will go to a new house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Wrap Up Your Day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wel dipthong oi, 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ot and The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Talk About 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morrow we will read about a boy who has to mov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523880" y="2362320"/>
          <a:ext cx="6096240" cy="32018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rite about a time when something unexpected happened to you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981080" y="2133720"/>
          <a:ext cx="6096240" cy="3601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day we will read about a little boy.  Movers come and pack all his toys.  He is afraid he won’t enjoy his new home.  Have you ever been afraid of a change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981080" y="2133720"/>
          <a:ext cx="6096240" cy="3601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day we will read about a little </a:t>
                      </a:r>
                      <a:r>
                        <a:rPr b="1" lang="en-US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boy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 Movers come and pack all his </a:t>
                      </a:r>
                      <a:r>
                        <a:rPr b="1" lang="en-US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toys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 He is afraid he won’t </a:t>
                      </a:r>
                      <a:r>
                        <a:rPr b="1" lang="en-US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enjoy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his new home.  Have you ever been afraid of a change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95480" y="1066680"/>
          <a:ext cx="3429000" cy="541044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54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ou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uck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l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ual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2514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azing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pthongs: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oi, 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-Frequency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-Meaning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xt Cl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erbs that Tell When and Wh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  <a:ea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676520" y="2971800"/>
          <a:ext cx="6095880" cy="114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  <a:ea typeface="Arial"/>
              </a:rPr>
              <a:t>teas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tease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f you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tea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someone, that means you make fun of the other pers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You can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tea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someone in a playful or a hurtful w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He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teas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her about her short haircu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y friends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tea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me because I won’t go on the roller coas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  <a:ea typeface="Arial"/>
              </a:rPr>
              <a:t>quive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quiv - 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Quiv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means “shakes quickly with movements or sounds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Her voice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quive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as she tries to spea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His hands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quiv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from the col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s the little horse tries to stand, its legs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quiv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  <a:ea typeface="Arial"/>
              </a:rPr>
              <a:t>foreig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for - eig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 country that is not your own is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foreig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Someone or something that is from a different country is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foreig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We traveled to many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foreig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countr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lejandro is a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foreig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exchange student from Brazi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nna speaks two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foreig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languag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Read-Alou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 the Same, Only Differ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400" spc="-1" strike="noStrike">
                <a:solidFill>
                  <a:srgbClr val="703dff"/>
                </a:solidFill>
                <a:latin typeface="Comic Sans MS"/>
              </a:rPr>
              <a:t>oi, o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choi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can read this word because you know how to read words with the sound /</a:t>
            </a: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o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/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sound do the letters </a:t>
            </a: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o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stand for in this word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400" spc="-1" strike="noStrike">
                <a:solidFill>
                  <a:srgbClr val="703dff"/>
                </a:solidFill>
                <a:latin typeface="Comic Sans MS"/>
              </a:rPr>
              <a:t>oi, o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you come to a new word, look at the letters from left to right and think about the vowel sound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ay the sounds in the word to yourself and then read the word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destro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400" spc="-1" strike="noStrike">
                <a:solidFill>
                  <a:srgbClr val="703dff"/>
                </a:solidFill>
                <a:latin typeface="Comic Sans MS"/>
              </a:rPr>
              <a:t>oi, o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819160" y="1828800"/>
            <a:ext cx="5562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rlo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oyag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hoo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int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o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roil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32004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listen to “A New School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4" name="Picture 2" descr="Phonics Songs and Rhymes Chart 19"/>
          <p:cNvPicPr/>
          <p:nvPr/>
        </p:nvPicPr>
        <p:blipFill>
          <a:blip r:embed="rId1"/>
          <a:srcRect l="0" t="0" r="0" b="10345"/>
          <a:stretch/>
        </p:blipFill>
        <p:spPr>
          <a:xfrm>
            <a:off x="3886200" y="228600"/>
            <a:ext cx="510552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971800" y="1523880"/>
          <a:ext cx="3124080" cy="373392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37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ar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i, oy</a:t>
            </a:r>
            <a:br>
              <a:rPr sz="4000"/>
            </a:b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Find the words with oi and oy in “A New School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276360" y="2362320"/>
            <a:ext cx="5562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j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jo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33520" y="1523880"/>
          <a:ext cx="2590560" cy="307836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n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581280" y="1752480"/>
          <a:ext cx="4724640" cy="4653000"/>
        </p:xfrm>
        <a:graphic>
          <a:graphicData uri="http://schemas.openxmlformats.org/drawingml/2006/table">
            <a:tbl>
              <a:tblPr/>
              <a:tblGrid>
                <a:gridCol w="4724640"/>
              </a:tblGrid>
              <a:tr h="465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y          f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ise        enj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yal        dest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ist        loy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oil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mploy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wboy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rdu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oil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urquo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ord Family Word – hide</a:t>
            </a:r>
            <a:br>
              <a:rPr sz="4000"/>
            </a:br>
            <a:r>
              <a:rPr b="0" lang="en-US" sz="1400" spc="-1" strike="noStrike" u="sng">
                <a:solidFill>
                  <a:srgbClr val="00b20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398600" y="1952640"/>
          <a:ext cx="6111720" cy="3730680"/>
        </p:xfrm>
        <a:graphic>
          <a:graphicData uri="http://schemas.openxmlformats.org/drawingml/2006/table">
            <a:tbl>
              <a:tblPr/>
              <a:tblGrid>
                <a:gridCol w="2036880"/>
                <a:gridCol w="2038320"/>
                <a:gridCol w="2036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703d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b2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pr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n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ord Family Word – h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3" name="Picture 2" descr="http://tbn1.google.com/images?q=tbn:aQRdCwMBLekb5M:http://www.nps.gov/slbe/planyourvisit/images/port_o_fair_wagon_ride_kk_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828800"/>
            <a:ext cx="1481040" cy="1066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http://tbn0.google.com/images?q=tbn:LelUA6j0dVqlRM:http://www.alaska-in-pictures.com/data/media/19/bore-tide_338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1828800"/>
            <a:ext cx="1587240" cy="10666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http://tbn0.google.com/images?q=tbn:emRsSr8kXXb1fM:http://www.englishonline.org.cn/files/chid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1828800"/>
            <a:ext cx="1514520" cy="10666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http://tbn3.google.com/images?q=tbn:Vv9_qaDmXf_VTM:http://www.warrenwindsports.com.au/files/photos/hang-glide-dee-kramer-fly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29400" y="1828800"/>
            <a:ext cx="1523880" cy="10206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0" descr="http://tbn1.google.com/images?q=tbn:JvR598ZSUo3K3M:http://farm4.static.flickr.com/3061/2630518763_8a4c7f3e14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28800" y="3733920"/>
            <a:ext cx="1771560" cy="1334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http://tbn0.google.com/images?q=tbn:rihobjXApYVXAM:http://www.jumphouses.com/bouncehousesforsale/inflatable%2520slide%252018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267080" y="3809880"/>
            <a:ext cx="1319400" cy="12477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4" descr="http://tbn1.google.com/images?q=tbn:HTQtLTpS7mrlIM:http://www.umpires.tv/images/armchair/delivery_stride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77120" y="3657600"/>
            <a:ext cx="1266840" cy="1347840"/>
          </a:xfrm>
          <a:prstGeom prst="rect">
            <a:avLst/>
          </a:prstGeom>
          <a:ln w="0">
            <a:noFill/>
          </a:ln>
        </p:spPr>
      </p:pic>
      <p:sp>
        <p:nvSpPr>
          <p:cNvPr id="320" name="TextBox 10"/>
          <p:cNvSpPr/>
          <p:nvPr/>
        </p:nvSpPr>
        <p:spPr>
          <a:xfrm>
            <a:off x="1006200" y="28954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Box 11"/>
          <p:cNvSpPr/>
          <p:nvPr/>
        </p:nvSpPr>
        <p:spPr>
          <a:xfrm>
            <a:off x="2994120" y="28954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Box 12"/>
          <p:cNvSpPr/>
          <p:nvPr/>
        </p:nvSpPr>
        <p:spPr>
          <a:xfrm>
            <a:off x="4878000" y="289548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Box 13"/>
          <p:cNvSpPr/>
          <p:nvPr/>
        </p:nvSpPr>
        <p:spPr>
          <a:xfrm>
            <a:off x="6930720" y="281952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Box 14"/>
          <p:cNvSpPr/>
          <p:nvPr/>
        </p:nvSpPr>
        <p:spPr>
          <a:xfrm>
            <a:off x="2214000" y="51055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Box 15"/>
          <p:cNvSpPr/>
          <p:nvPr/>
        </p:nvSpPr>
        <p:spPr>
          <a:xfrm>
            <a:off x="4500000" y="510552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Box 16"/>
          <p:cNvSpPr/>
          <p:nvPr/>
        </p:nvSpPr>
        <p:spPr>
          <a:xfrm>
            <a:off x="6582960" y="510552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i, oy</a:t>
            </a:r>
            <a:br>
              <a:rPr sz="4000"/>
            </a:b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choice, join, voice, boy, toy, enjoy, rejo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743200" y="2133720"/>
          <a:ext cx="4343400" cy="32781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i, oy</a:t>
            </a:r>
            <a:br>
              <a:rPr sz="4000"/>
            </a:b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choice, join, voice, boy, toy, enjoy, rejo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743200" y="2133720"/>
          <a:ext cx="4343400" cy="32781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i, oy</a:t>
            </a:r>
            <a:br>
              <a:rPr sz="4000"/>
            </a:b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choice, join, voice, boy, toy, enjoy, rejo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743200" y="2133720"/>
          <a:ext cx="4343400" cy="32781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i, oy</a:t>
            </a:r>
            <a:br>
              <a:rPr sz="4000"/>
            </a:b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choice, join, voice, boy, toy, enjoy, rejo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743200" y="2133720"/>
          <a:ext cx="4343400" cy="32781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i, oy</a:t>
            </a:r>
            <a:br>
              <a:rPr sz="4000"/>
            </a:b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choice, join, voice, boy, toy, enjoy, rejo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2743200" y="2133720"/>
          <a:ext cx="4343400" cy="32781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i, oy</a:t>
            </a:r>
            <a:br>
              <a:rPr sz="4000"/>
            </a:b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choice, join, voice, boy, toy, enjoy, rejo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743200" y="2133720"/>
          <a:ext cx="4343400" cy="32781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33520" y="1523880"/>
          <a:ext cx="2590560" cy="307836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n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581280" y="1752480"/>
          <a:ext cx="4724640" cy="4653000"/>
        </p:xfrm>
        <a:graphic>
          <a:graphicData uri="http://schemas.openxmlformats.org/drawingml/2006/table">
            <a:tbl>
              <a:tblPr/>
              <a:tblGrid>
                <a:gridCol w="4724640"/>
              </a:tblGrid>
              <a:tr h="465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y          f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ise        enj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yal        dest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ist        loy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oil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mploy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wboy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rdu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oil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urquo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i, oy</a:t>
            </a:r>
            <a:br>
              <a:rPr sz="4000"/>
            </a:b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choice, join, voice, boy, toy, enjoy, rejo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743200" y="2133720"/>
          <a:ext cx="4343400" cy="32781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y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jo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i, oy</a:t>
            </a:r>
            <a:br>
              <a:rPr sz="4000"/>
            </a:b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choice, join, voice, boy, toy, enjoy, rejo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743200" y="2133720"/>
          <a:ext cx="4343400" cy="32781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j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y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jo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400" spc="-1" strike="noStrike">
                <a:solidFill>
                  <a:srgbClr val="703dff"/>
                </a:solidFill>
                <a:latin typeface="Comic Sans MS"/>
              </a:rPr>
              <a:t>oi, o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uld you enjoy the show with all that nois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will take the foil off the fish before I broil i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rowd was full of joy when they saw the cowboy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971800" y="1523880"/>
          <a:ext cx="3124080" cy="373392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37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ar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895480" y="1066680"/>
          <a:ext cx="3429000" cy="541044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54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ou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uck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l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ual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troubl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something that is difficult or upset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gian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very large or hug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chuckl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to laugh quiet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fai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just and by the rule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strong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having great power or streng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block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part of a city or tow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tear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drops of salty water that come from your ey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(next slid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blo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33520" y="106632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5" name="Picture 7" descr="broomielaw_eastwestlink_make_1204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1066680"/>
            <a:ext cx="2352600" cy="23529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CityBlock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76520" y="1066680"/>
            <a:ext cx="2154240" cy="2819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1" descr="1581627128_baef6bb7b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905120" y="4084560"/>
            <a:ext cx="2895480" cy="21830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3" descr="jeffersonst_garage_0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10080" y="3679920"/>
            <a:ext cx="28386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More Words to Kno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70c0"/>
                </a:solidFill>
                <a:latin typeface="Comic Sans MS"/>
              </a:rPr>
              <a:t>gle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great happiness or jo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70c0"/>
                </a:solidFill>
                <a:latin typeface="Comic Sans MS"/>
              </a:rPr>
              <a:t>usuall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something that commonly happe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3238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roub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ie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ia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uck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loc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et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a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choo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38512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ig Question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hy are some changes difficul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Context Cl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strategies to use when you come across words you don’t understa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look in a dictionary or glossa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get the meaning from word parts—the base word, prefix, or suffix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times you can look for context clues in the words and sentences around the unknown wor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day we will learn how to use context clues to find the meaning of a multiple-meaning wor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5" descr="Student Pages"/>
          <p:cNvPicPr/>
          <p:nvPr/>
        </p:nvPicPr>
        <p:blipFill>
          <a:blip r:embed="rId1"/>
          <a:stretch/>
        </p:blipFill>
        <p:spPr>
          <a:xfrm>
            <a:off x="12600" y="152280"/>
            <a:ext cx="91314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aily Fix-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boy ride his horse fast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he cowboy rode his horse fast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jill enjoy the show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Did Jill enjoy the show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erbs tell more about a verb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adverbs show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oving van came 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Comic Sans MS"/>
              </a:rPr>
              <a:t>to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To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ell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vers took boxes 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Comic Sans MS"/>
              </a:rPr>
              <a:t>outsid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Outsid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ells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Wrap Up Your Day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son vocabu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iz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Talk About It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morrow we will find out how two children are alike, but differ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br>
              <a:rPr sz="4800"/>
            </a:b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676520" y="20574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rite about something in your neighborhood that makes you chuckle.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Wednesday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981080" y="190512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day we will read more about Emilio and Nina.  Emilio has trouble at school, but Nina helps him to be strong.  What does it mean to be stron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Wednesday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981080" y="190512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day we will read more about Emilio and Nina.  Emilio has </a:t>
                      </a:r>
                      <a:r>
                        <a:rPr b="1" lang="en-US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trouble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t school, but Nina helps him to be </a:t>
                      </a:r>
                      <a:r>
                        <a:rPr b="1" lang="en-US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strong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 What does it mean to be </a:t>
                      </a:r>
                      <a:r>
                        <a:rPr b="1" lang="en-US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strong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251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thongs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u, 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thongs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i, 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mazing Wo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nony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erbs that Tell When and W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  <a:ea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676520" y="2971800"/>
          <a:ext cx="6095880" cy="114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905120" y="18288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verybody goes through changes.  We grow older.  We move to a different school or town.  We even change friends.  Why are some changes difficult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  <a:ea typeface="Arial"/>
              </a:rPr>
              <a:t>accen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ac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 -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cent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When someone pronounces words in a way that is heard in a different part of the country or in a foreign county, we say that person has an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acc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Jose speaks with a Spanish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acc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y cousin has a southern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acc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n our class, we all have a southern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acc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8880" y="22860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  <a:ea typeface="Arial"/>
              </a:rPr>
              <a:t>forlor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for - lorn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f someone is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forlor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, that person is lonely and s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Some children at camp were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forlor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on their first day away from ho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lost puppy looked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forlor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Read-Alou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 the Same, Only Differ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w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w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w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w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w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w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do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w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w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1-01-20T16:02:37Z</dcterms:modified>
  <cp:revision>69</cp:revision>
  <dc:subject/>
  <dc:title>Slide 1</dc:title>
</cp:coreProperties>
</file>